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1BB-19B0-4E67-8B9E-E5B9B811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9C5-2E1D-451D-A9E2-35B73201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D1F00-A9B7-4347-AF21-8C463892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56615-AACB-47E5-9CC9-D5A22743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37820-5520-4320-BF8C-4592CBBF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53809-5A9C-4D65-AEDD-B5B97135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7EF70-5FDE-4A48-A842-0B37EF0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2CF46-1460-4375-82F9-EC567B02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EEA0F-9E42-4023-AC45-6DF0E326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626D4-4BA8-4BCD-9003-337B5DE8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4E7FC-022A-4FF8-A779-8D743148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DD056-B089-4253-9D81-DCB01078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26A-B0CF-4B98-A50D-CA4B1044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AD85B-149D-4C31-B3E7-E1267D12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A80C6-DD6B-4CC2-800B-EB8A7E20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9F256-250C-41BC-A558-4988F584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B7EA9-FC4C-4674-A7E9-47406EA6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A123B-7B19-4558-BE6E-E7A16699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59396-73C5-4B02-A86D-26CD0863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D3337-4EBF-449B-9C78-836182E3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59824-FE8B-4910-AE4D-36228C5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DB08F-3AEC-420B-AEB3-7FF5A488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D900D-72F9-48ED-B0D4-F7620288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C22-C7D0-4D36-8165-DAC78EEF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72016-DD3E-49B2-A076-1F51B96E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0E278-773E-4031-B7B2-384753AA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3748D-1D4A-40F3-B04D-95EFB5B0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184A4-537E-4A33-9D67-63E8197F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7A337-B4AB-4E97-9F2E-F4663859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C7CD4-2EC6-4138-B16E-2AC29CA8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C4514-BA59-4ABB-999A-6E5939E4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D9FB8-A23D-444F-ACD4-C6D4365F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7D9E8-E320-4A6B-AA35-C6B82BFF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604EF-53B9-4BA6-846B-5DC45EB2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75F2-5954-4FD3-BA55-F2CEC4F7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8572A-A335-4F80-8A4C-05DA7FD1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F9249-17AE-4692-AD04-1B14125E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6497E-607A-4411-BB61-51B177C6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1DF17-1173-4C02-8A5C-81271D7B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1129E-AD14-4AF0-A359-4F380F64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80749-E6AE-4A68-BC56-12E0A6C4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7C24B-30C5-4E13-8DA4-60A2F0F4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C4F31-0FF5-48F7-BEC7-1253E46C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46038-CAAA-4CC2-A6A2-A54083F5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96124-B1CA-4B7F-89AE-DA616360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D392-F607-402F-9D0A-AC9D5D76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61E19-454D-4767-87EA-EF78BAFF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15949-01CE-48CA-97F6-8E68B6A0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89AFF-7E73-42B2-8473-275DA7C1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8A056-7CC7-4356-AC2E-DB99CDF2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B4ABC-053F-44C7-8788-97B0357F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2E982-D9E8-4EFD-A9D6-8E84984C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97AC6-78AE-4C32-897C-A3A7CD0C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F42DE-9215-4BB1-80EB-1FE45560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DCF6F-F23D-4271-B5A8-F3B3B6E1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4820D-FE46-455F-9B08-CBC35929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4689-5CC9-43C9-B83E-2046056B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BF69F-B058-49A8-A041-E5C8B213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462B3-F9E4-470C-8477-3C31B88A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C5D49-7BFE-41C9-B4A2-1ABDDBAC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AD501-25A5-4EDF-9C9C-74F72DF0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48AE5-74AE-4F7C-9C92-C5B03A41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2E31C-A38F-403E-884E-7DCF87BB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462F4-BA2F-4E4D-8A69-EEE9D3DE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2AE1-D0F2-45BD-81FE-51FCE903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958D-7D4B-416C-8447-FC45CDC1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3696-4B4E-46C4-90EA-78A96C73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3599-F5D2-438F-963F-D7B658A6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B26-63E3-493E-91AB-31CE51A8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D8DC-E022-4503-BA4E-45B2D39C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6A84-C77B-4A14-8CD8-E3B431A9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0CB6-445A-461E-B67C-7EC72A9C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B8CA-77F3-4334-8042-B8150CDE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F1BC-5266-4DDB-AAB8-C7147F7C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AC36-43D0-40E6-806E-DED9B674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47C96-5937-4A2E-9540-7BE1A69A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9D23D-A28D-4F81-B20C-405090A8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5350-1FA1-458F-BA7F-281F01CA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9248-CC3E-4C8D-B22C-3971B2A2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1DA-BBA9-442E-AE8F-A621283F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A5DC-0049-4A25-B419-2431DF53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0ACE-F6A9-4EB3-81DD-41FEFB9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C190-E4D8-462A-BB6B-6D687515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8A8B-9AEC-4159-89CC-4B7BCC5C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5F883-D8BC-4C2B-9AB4-9E4BE68B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6857A-5A3B-4E23-AA45-773FEC5C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D8B8C-1CED-4D89-B08C-19F29FC2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937B3-B9E1-49FA-80AC-97624D31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59052-E550-432B-9F56-A00DB70F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EA51A-3700-4CE4-BE57-CB161C62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7C0-CFED-484B-AF62-0E508EB4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CB53-DD22-46EC-9001-73D38606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173CE-3FF7-447D-9793-B852E27D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9A33-E437-4F34-83C4-0237488B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B58B-E593-4352-831B-D6ED373D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CDA90-B076-4583-888E-D2623C37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8579-E7B4-4FA8-89C8-CC5C043C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7E46-8CBE-4EBB-A05F-A0B800C5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6B65-04FA-46D2-AC26-03883BC4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D8732-8C9C-40B8-8561-B0D97A99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73D37-48E5-450B-AA71-CB81B44B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C8B-34B1-4163-A7BC-B23EA64D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37AA4-9250-484D-B591-FECBC2C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889B3-E783-4834-9080-EA276C29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2FA64-5615-4B8E-A5F0-9999E9FC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D343F-FA2C-46E2-BD2A-A5DCE2B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AD870-C897-411B-91F3-DCBFAE31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0C2E-9EF9-4C60-9ABF-3A0E518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E7A2-76AF-4DCF-B015-39CCB61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AFACF-0E2C-486A-9A76-7B726CAB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786B-BBFB-49E1-A7B7-B5E65F3E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A977-5148-442E-BD15-CD6A1910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469-CB2A-41B7-AE0E-7E771635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BA290-AFEE-459A-B77C-A4C5A055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177D5-8E0D-4AE6-AEA2-37E23EEF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B1C2-398B-4168-93A6-AE573B14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0CFD2-45E7-440D-94EC-8DF8BDD4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1F0C4-2F04-4FC6-8A68-1451F96B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3DCE8-4358-43FD-9A31-118F4181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2B6A3-986A-40F1-A7F8-EC6339BB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0CFD-D0F0-42EC-B649-6BDF787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54C47-D3DC-4C4A-BA53-0B1BF0D2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C30C-84B9-4653-8C88-E2CE7357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701-78DB-4035-A676-B0534CA9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3B50F-1BF4-4ADB-8A0B-36EA9A68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8BD98-DF61-4925-8C83-F1F32A3C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DF42-1E1E-4B3F-9D59-E3A4F906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2D42F-24E8-4360-BB4A-94055CC3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17B0-E094-4760-A374-22B8DFB6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736C5-2812-4289-B5D4-2DB82423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787B0-1985-4342-84BD-F0A64FF3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B6994-122B-4902-9B92-0955F5E8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7E95A-ED13-4DCE-BBF9-CC492C3B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B7978-042F-4F3D-A2D8-D1571B43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CEE-47D2-45C7-8BF7-B17ECBA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FC222-5EDB-4D03-8694-08AAB95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D14E1-4502-4B7B-A06C-4AB26D4B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75991-A09F-4D76-8C20-CFE7E2FC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89A1E-F021-4B48-96A0-D765BBD5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0B6B0-ACEB-4D67-89F6-B3D0E94D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762FB-7AAA-4390-895A-11D18518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84089-C9E9-45EA-BE51-BD179BDB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3CBF4-EB30-46DF-9804-DDC25316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7AAED-DB55-4FD8-BFEC-F9445D88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1E535-56A7-4D0C-8893-08A49380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C1C-8B29-4031-8C79-0B31345B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F10A5-0CC5-4A62-8A08-7F8044BD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DB4DA-D599-4A5A-A6C4-5F186DBD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F428F-898E-4FC3-B0EB-DF0948BD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016F0-D1A1-4673-B5AE-EC8A1BE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167AE-CE08-4C90-87FD-DC1BE731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7ACFE-C67A-4676-8771-F312EBD4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C9538-8D5A-46F4-AB51-B10C5E2E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3FCDF-5AEA-4BF7-A8D5-EFAAFB7B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963AF-4DD3-4231-BEF0-870B37DF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35E1D-8F8A-4EBA-9FC2-0854C001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C4FA-6513-42E6-999C-EC20DBFD5A27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38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35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8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9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B0BC-E4BA-47B6-9F53-5464BC488F7F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91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827F-4509-449A-A6E0-79AB40864AAD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747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4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C849-F32B-4B97-8EBB-C7B808CDC9DE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DB3D-695F-45ED-9D7D-937E9C020943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8"/>
          <p:cNvGrpSpPr/>
          <p:nvPr/>
        </p:nvGrpSpPr>
        <p:grpSpPr>
          <a:xfrm>
            <a:off x="685800" y="0"/>
            <a:ext cx="8001000" cy="7950240"/>
            <a:chOff x="685800" y="0"/>
            <a:chExt cx="8001000" cy="7950240"/>
          </a:xfrm>
        </p:grpSpPr>
        <p:sp>
          <p:nvSpPr>
            <p:cNvPr id="74" name="Pie 39"/>
            <p:cNvSpPr/>
            <p:nvPr/>
          </p:nvSpPr>
          <p:spPr>
            <a:xfrm flipH="1" flipV="1">
              <a:off x="1256760" y="5778720"/>
              <a:ext cx="2171520" cy="2171520"/>
            </a:xfrm>
            <a:custGeom>
              <a:avLst/>
              <a:gdLst>
                <a:gd name="textAreaLeft" fmla="*/ 317880 w 2171520"/>
                <a:gd name="textAreaRight" fmla="*/ 1853640 w 2171520"/>
                <a:gd name="textAreaTop" fmla="*/ 317880 h 2171520"/>
                <a:gd name="textAreaBottom" fmla="*/ 1853640 h 2171520"/>
              </a:gdLst>
              <a:ahLst/>
              <a:rect l="textAreaLeft" t="textAreaTop" r="textAreaRight" b="textAreaBottom"/>
              <a:pathLst>
                <a:path w="2171701" h="2171700">
                  <a:moveTo>
                    <a:pt x="2171701" y="1085850"/>
                  </a:moveTo>
                  <a:lnTo>
                    <a:pt x="2171701" y="1085850"/>
                  </a:lnTo>
                  <a:arcTo wR="1085851" hR="1085850" stAng="0" swAng="10800003"/>
                  <a:lnTo>
                    <a:pt x="1085851" y="1085850"/>
                  </a:lnTo>
                  <a:close/>
                </a:path>
              </a:pathLst>
            </a:cu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0"/>
              <a:ext cx="8001000" cy="6856560"/>
              <a:chOff x="685800" y="0"/>
              <a:chExt cx="8001000" cy="6856560"/>
            </a:xfrm>
          </p:grpSpPr>
          <p:sp>
            <p:nvSpPr>
              <p:cNvPr id="76" name="Freeform 41"/>
              <p:cNvSpPr/>
              <p:nvPr/>
            </p:nvSpPr>
            <p:spPr>
              <a:xfrm>
                <a:off x="685800" y="5880240"/>
                <a:ext cx="1143000" cy="97632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2590560" y="518184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43"/>
              <p:cNvSpPr/>
              <p:nvPr/>
            </p:nvSpPr>
            <p:spPr>
              <a:xfrm>
                <a:off x="838080" y="579132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44"/>
              <p:cNvSpPr/>
              <p:nvPr/>
            </p:nvSpPr>
            <p:spPr>
              <a:xfrm>
                <a:off x="2361960" y="59439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45"/>
              <p:cNvSpPr/>
              <p:nvPr/>
            </p:nvSpPr>
            <p:spPr>
              <a:xfrm>
                <a:off x="1676160" y="562644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46"/>
              <p:cNvSpPr/>
              <p:nvPr/>
            </p:nvSpPr>
            <p:spPr>
              <a:xfrm>
                <a:off x="1981080" y="533412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47"/>
              <p:cNvSpPr/>
              <p:nvPr/>
            </p:nvSpPr>
            <p:spPr>
              <a:xfrm>
                <a:off x="1942920" y="55627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48"/>
              <p:cNvSpPr/>
              <p:nvPr/>
            </p:nvSpPr>
            <p:spPr>
              <a:xfrm>
                <a:off x="2361960" y="50295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49"/>
              <p:cNvSpPr/>
              <p:nvPr/>
            </p:nvSpPr>
            <p:spPr>
              <a:xfrm>
                <a:off x="3009960" y="441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50"/>
              <p:cNvSpPr/>
              <p:nvPr/>
            </p:nvSpPr>
            <p:spPr>
              <a:xfrm>
                <a:off x="2971800" y="46483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51"/>
              <p:cNvSpPr/>
              <p:nvPr/>
            </p:nvSpPr>
            <p:spPr>
              <a:xfrm>
                <a:off x="3314520" y="472464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52"/>
              <p:cNvSpPr/>
              <p:nvPr/>
            </p:nvSpPr>
            <p:spPr>
              <a:xfrm>
                <a:off x="3619440" y="50295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53"/>
              <p:cNvSpPr/>
              <p:nvPr/>
            </p:nvSpPr>
            <p:spPr>
              <a:xfrm>
                <a:off x="1384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54"/>
              <p:cNvSpPr/>
              <p:nvPr/>
            </p:nvSpPr>
            <p:spPr>
              <a:xfrm>
                <a:off x="3505320" y="52581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55"/>
              <p:cNvSpPr/>
              <p:nvPr/>
            </p:nvSpPr>
            <p:spPr>
              <a:xfrm>
                <a:off x="1295280" y="566460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56"/>
              <p:cNvSpPr/>
              <p:nvPr/>
            </p:nvSpPr>
            <p:spPr>
              <a:xfrm>
                <a:off x="1447560" y="551196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57"/>
              <p:cNvSpPr/>
              <p:nvPr/>
            </p:nvSpPr>
            <p:spPr>
              <a:xfrm>
                <a:off x="1600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59"/>
              <p:cNvSpPr/>
              <p:nvPr/>
            </p:nvSpPr>
            <p:spPr>
              <a:xfrm>
                <a:off x="3352680" y="59439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60"/>
              <p:cNvSpPr/>
              <p:nvPr/>
            </p:nvSpPr>
            <p:spPr>
              <a:xfrm flipV="1">
                <a:off x="5486400" y="0"/>
                <a:ext cx="1143000" cy="97632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74"/>
              <p:cNvSpPr/>
              <p:nvPr/>
            </p:nvSpPr>
            <p:spPr>
              <a:xfrm flipV="1">
                <a:off x="7391520" y="760320"/>
                <a:ext cx="914400" cy="9144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75"/>
              <p:cNvSpPr/>
              <p:nvPr/>
            </p:nvSpPr>
            <p:spPr>
              <a:xfrm flipV="1">
                <a:off x="5638680" y="60804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77"/>
              <p:cNvSpPr/>
              <p:nvPr/>
            </p:nvSpPr>
            <p:spPr>
              <a:xfrm flipV="1">
                <a:off x="7162920" y="1501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78"/>
              <p:cNvSpPr/>
              <p:nvPr/>
            </p:nvSpPr>
            <p:spPr>
              <a:xfrm flipV="1">
                <a:off x="6477120" y="7729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92"/>
              <p:cNvSpPr/>
              <p:nvPr/>
            </p:nvSpPr>
            <p:spPr>
              <a:xfrm flipV="1">
                <a:off x="6782040" y="11660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93"/>
              <p:cNvSpPr/>
              <p:nvPr/>
            </p:nvSpPr>
            <p:spPr>
              <a:xfrm flipV="1">
                <a:off x="6743880" y="8611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98"/>
              <p:cNvSpPr/>
              <p:nvPr/>
            </p:nvSpPr>
            <p:spPr>
              <a:xfrm flipV="1">
                <a:off x="7162920" y="106524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99"/>
              <p:cNvSpPr/>
              <p:nvPr/>
            </p:nvSpPr>
            <p:spPr>
              <a:xfrm flipV="1">
                <a:off x="7810560" y="20804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100"/>
              <p:cNvSpPr/>
              <p:nvPr/>
            </p:nvSpPr>
            <p:spPr>
              <a:xfrm flipV="1">
                <a:off x="7772400" y="17755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101"/>
              <p:cNvSpPr/>
              <p:nvPr/>
            </p:nvSpPr>
            <p:spPr>
              <a:xfrm flipV="1">
                <a:off x="8115480" y="192888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102"/>
              <p:cNvSpPr/>
              <p:nvPr/>
            </p:nvSpPr>
            <p:spPr>
              <a:xfrm flipV="1">
                <a:off x="8420400" y="16239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103"/>
              <p:cNvSpPr/>
              <p:nvPr/>
            </p:nvSpPr>
            <p:spPr>
              <a:xfrm flipV="1">
                <a:off x="6184800" y="12430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104"/>
              <p:cNvSpPr/>
              <p:nvPr/>
            </p:nvSpPr>
            <p:spPr>
              <a:xfrm flipV="1">
                <a:off x="8305920" y="13953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105"/>
              <p:cNvSpPr/>
              <p:nvPr/>
            </p:nvSpPr>
            <p:spPr>
              <a:xfrm flipV="1">
                <a:off x="6096240" y="106524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106"/>
              <p:cNvSpPr/>
              <p:nvPr/>
            </p:nvSpPr>
            <p:spPr>
              <a:xfrm flipV="1">
                <a:off x="6248520" y="1217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107"/>
              <p:cNvSpPr/>
              <p:nvPr/>
            </p:nvSpPr>
            <p:spPr>
              <a:xfrm flipV="1">
                <a:off x="6400800" y="12430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108"/>
              <p:cNvSpPr/>
              <p:nvPr/>
            </p:nvSpPr>
            <p:spPr>
              <a:xfrm flipV="1">
                <a:off x="8153640" y="37872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Oval 109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10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11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E190-5C09-40EC-8AB7-7C91E31CF237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D77F-12FA-4E62-9FF2-DF737B039FC5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38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230" name="Oval 39"/>
            <p:cNvSpPr/>
            <p:nvPr/>
          </p:nvSpPr>
          <p:spPr>
            <a:xfrm>
              <a:off x="624996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40"/>
            <p:cNvSpPr/>
            <p:nvPr/>
          </p:nvSpPr>
          <p:spPr>
            <a:xfrm>
              <a:off x="5513040" y="5048280"/>
              <a:ext cx="1103400" cy="11030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41"/>
            <p:cNvSpPr/>
            <p:nvPr/>
          </p:nvSpPr>
          <p:spPr>
            <a:xfrm>
              <a:off x="624996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42"/>
            <p:cNvSpPr/>
            <p:nvPr/>
          </p:nvSpPr>
          <p:spPr>
            <a:xfrm>
              <a:off x="615780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43"/>
            <p:cNvSpPr/>
            <p:nvPr/>
          </p:nvSpPr>
          <p:spPr>
            <a:xfrm>
              <a:off x="5697360" y="2133720"/>
              <a:ext cx="1839960" cy="1839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44"/>
            <p:cNvSpPr/>
            <p:nvPr/>
          </p:nvSpPr>
          <p:spPr>
            <a:xfrm>
              <a:off x="707724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45"/>
            <p:cNvSpPr/>
            <p:nvPr/>
          </p:nvSpPr>
          <p:spPr>
            <a:xfrm>
              <a:off x="4806720" y="471024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46"/>
            <p:cNvSpPr/>
            <p:nvPr/>
          </p:nvSpPr>
          <p:spPr>
            <a:xfrm>
              <a:off x="459252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496080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48"/>
            <p:cNvSpPr/>
            <p:nvPr/>
          </p:nvSpPr>
          <p:spPr>
            <a:xfrm>
              <a:off x="5329080" y="47102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609480" y="990360"/>
            <a:ext cx="1179720" cy="1357560"/>
            <a:chOff x="609480" y="990360"/>
            <a:chExt cx="1179720" cy="1357560"/>
          </a:xfrm>
        </p:grpSpPr>
        <p:sp>
          <p:nvSpPr>
            <p:cNvPr id="241" name="Oval 50"/>
            <p:cNvSpPr/>
            <p:nvPr/>
          </p:nvSpPr>
          <p:spPr>
            <a:xfrm>
              <a:off x="898200" y="1457280"/>
              <a:ext cx="891000" cy="8906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 flipV="1">
              <a:off x="647280" y="1294560"/>
              <a:ext cx="355680" cy="355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52"/>
            <p:cNvSpPr/>
            <p:nvPr/>
          </p:nvSpPr>
          <p:spPr>
            <a:xfrm flipV="1">
              <a:off x="609480" y="990000"/>
              <a:ext cx="432000" cy="4316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D043-7DD0-40DF-B98D-3B7BCBD07836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9F2C-CB5A-4329-954F-E394F53C081E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A7BA-063B-46E8-AA46-593BF0325176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90BC-04F6-4858-AAA3-88BC88DB0E11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F810-85B4-4402-9296-EDDD811C48D7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579" name="Oval 39"/>
            <p:cNvSpPr/>
            <p:nvPr/>
          </p:nvSpPr>
          <p:spPr>
            <a:xfrm>
              <a:off x="4695840" y="5048280"/>
              <a:ext cx="110484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40"/>
            <p:cNvSpPr/>
            <p:nvPr/>
          </p:nvSpPr>
          <p:spPr>
            <a:xfrm>
              <a:off x="7066080" y="457200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41"/>
            <p:cNvSpPr/>
            <p:nvPr/>
          </p:nvSpPr>
          <p:spPr>
            <a:xfrm>
              <a:off x="5340240" y="48960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42"/>
            <p:cNvSpPr/>
            <p:nvPr/>
          </p:nvSpPr>
          <p:spPr>
            <a:xfrm>
              <a:off x="6694560" y="3048120"/>
              <a:ext cx="1839960" cy="18414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43"/>
            <p:cNvSpPr/>
            <p:nvPr/>
          </p:nvSpPr>
          <p:spPr>
            <a:xfrm>
              <a:off x="791712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44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45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46"/>
            <p:cNvSpPr/>
            <p:nvPr/>
          </p:nvSpPr>
          <p:spPr>
            <a:xfrm>
              <a:off x="6551640" y="512136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47"/>
            <p:cNvSpPr/>
            <p:nvPr/>
          </p:nvSpPr>
          <p:spPr>
            <a:xfrm>
              <a:off x="6781680" y="556272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48"/>
            <p:cNvSpPr/>
            <p:nvPr/>
          </p:nvSpPr>
          <p:spPr>
            <a:xfrm>
              <a:off x="6705720" y="5181840"/>
              <a:ext cx="306360" cy="3078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49"/>
            <p:cNvSpPr/>
            <p:nvPr/>
          </p:nvSpPr>
          <p:spPr>
            <a:xfrm>
              <a:off x="7074000" y="512136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Oval 50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51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52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A9F1-8D8D-447B-A3D4-28843B1B299F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Title 1" descr=""/>
          <p:cNvPicPr/>
          <p:nvPr/>
        </p:nvPicPr>
        <p:blipFill>
          <a:blip r:embed="rId1"/>
          <a:stretch/>
        </p:blipFill>
        <p:spPr>
          <a:xfrm>
            <a:off x="682560" y="1407960"/>
            <a:ext cx="7443720" cy="1517760"/>
          </a:xfrm>
          <a:prstGeom prst="rect">
            <a:avLst/>
          </a:prstGeom>
          <a:ln w="0">
            <a:noFill/>
          </a:ln>
        </p:spPr>
      </p:pic>
      <p:pic>
        <p:nvPicPr>
          <p:cNvPr id="876" name="Subtitle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3346560" y="2938320"/>
            <a:ext cx="4444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6840360" cy="1158840"/>
          </a:xfrm>
          <a:prstGeom prst="rect">
            <a:avLst/>
          </a:prstGeom>
          <a:ln w="0">
            <a:noFill/>
          </a:ln>
        </p:spPr>
      </p:pic>
      <p:pic>
        <p:nvPicPr>
          <p:cNvPr id="894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896" name="Content Placeholder 2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98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7016760" cy="1158840"/>
          </a:xfrm>
          <a:prstGeom prst="rect">
            <a:avLst/>
          </a:prstGeom>
          <a:ln w="0">
            <a:noFill/>
          </a:ln>
        </p:spPr>
      </p:pic>
      <p:pic>
        <p:nvPicPr>
          <p:cNvPr id="900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902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Title 1" descr=""/>
          <p:cNvPicPr/>
          <p:nvPr/>
        </p:nvPicPr>
        <p:blipFill>
          <a:blip r:embed="rId1"/>
          <a:stretch/>
        </p:blipFill>
        <p:spPr>
          <a:xfrm>
            <a:off x="1243080" y="480960"/>
            <a:ext cx="6840360" cy="1281240"/>
          </a:xfrm>
          <a:prstGeom prst="rect">
            <a:avLst/>
          </a:prstGeom>
          <a:ln w="0">
            <a:noFill/>
          </a:ln>
        </p:spPr>
      </p:pic>
      <p:pic>
        <p:nvPicPr>
          <p:cNvPr id="878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80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82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84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6840360" cy="1158840"/>
          </a:xfrm>
          <a:prstGeom prst="rect">
            <a:avLst/>
          </a:prstGeom>
          <a:ln w="0">
            <a:noFill/>
          </a:ln>
        </p:spPr>
      </p:pic>
      <p:pic>
        <p:nvPicPr>
          <p:cNvPr id="886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6840360" cy="1158840"/>
          </a:xfrm>
          <a:prstGeom prst="rect">
            <a:avLst/>
          </a:prstGeom>
          <a:ln w="0">
            <a:noFill/>
          </a:ln>
        </p:spPr>
      </p:pic>
      <p:pic>
        <p:nvPicPr>
          <p:cNvPr id="888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6840360" cy="1158840"/>
          </a:xfrm>
          <a:prstGeom prst="rect">
            <a:avLst/>
          </a:prstGeom>
          <a:ln w="0">
            <a:noFill/>
          </a:ln>
        </p:spPr>
      </p:pic>
      <p:pic>
        <p:nvPicPr>
          <p:cNvPr id="890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6840360" cy="1158840"/>
          </a:xfrm>
          <a:prstGeom prst="rect">
            <a:avLst/>
          </a:prstGeom>
          <a:ln w="0">
            <a:noFill/>
          </a:ln>
        </p:spPr>
      </p:pic>
      <p:pic>
        <p:nvPicPr>
          <p:cNvPr id="892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26:51Z</dcterms:created>
  <dc:creator>Thomas Metcalf School</dc:creator>
  <dc:description/>
  <dc:language>en-US</dc:language>
  <cp:lastModifiedBy>Fries</cp:lastModifiedBy>
  <dcterms:modified xsi:type="dcterms:W3CDTF">2010-03-06T21:12:36Z</dcterms:modified>
  <cp:revision>15</cp:revision>
  <dc:subject/>
  <dc:title>The Big6 does a Travel Brochure</dc:title>
</cp:coreProperties>
</file>